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5A9-7D76-45CD-9936-AE372F96D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80F1-C31C-447A-BFDD-659313818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82C3-9D46-4E77-88F8-A18BB3E9B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112-5727-43FC-ACF9-5D9A8A6B4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8027-0398-4077-830B-037319893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BCF2-2684-4DE6-9D42-A5FCD52DB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E120-9CE2-4E58-91E3-8C0A0036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019-8E76-4EE7-96EC-ECE9CF2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75D-759F-4666-A3A4-C5421240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89C-6486-472F-84CD-5F9C3A24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305B-E06E-45D9-A522-5ECAAFC1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B437-FF5D-4A9E-800C-0C55BECA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C9D-E051-4FCC-AFAE-795B7D0D3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9092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askerville Old Face"/>
              </a:rPr>
              <a:t>Comma usage and pronoun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 rot="20030400">
            <a:off x="609480" y="609120"/>
            <a:ext cx="434340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Revi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95280" y="5257800"/>
            <a:ext cx="600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Ia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590920" y="5181480"/>
            <a:ext cx="17049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Meredith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029200" y="5638680"/>
            <a:ext cx="1457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Andrew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 rot="5400000">
            <a:off x="6822720" y="5369040"/>
            <a:ext cx="163188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Frank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after two or more introductory prepositional phr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ear the beginning of the trail alongside the lake, the scout leader, David, found an overturned cano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comma before: and, but, or, nor, for, so, and yet when they join independent cla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sky looks clear, yet rain has been foreca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828800" y="533520"/>
            <a:ext cx="525780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ma Usag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202680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a comma after an introductory adverb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: While the spartans put on their helmets, the fans in the stands started chee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Use commas to set off nonessential clauses and nonessential participial phr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: Jodi, who was offered scholarships to three colleges, will go to Indiana in the f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514600" y="685800"/>
            <a:ext cx="40384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99cc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More Rules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99cc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not use unnecessary com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rect: Mrs. Caldwell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I put a DVD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 fashion catalog in the time caps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2133720" y="3352680"/>
            <a:ext cx="4647960" cy="31006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438280" y="380880"/>
            <a:ext cx="4496040" cy="9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REMEMB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s to kn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bject of a verb is in the nominativ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failing to write a good narrative ess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edicate nominative is in the nominativ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The one you should blame for having to watc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 Lege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14600" y="609480"/>
            <a:ext cx="419112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Pronoun Referenc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ronoun should agree with its antecedent in number and in gen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i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nde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wn ballet comp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un of a pronoun preceding a gerund is in the possessive c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Mrs. Caldwell objected to her student’s using the laptops when she had signed up for the d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514600" y="457200"/>
            <a:ext cx="4038480" cy="110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ore Rules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09:50Z</dcterms:created>
  <dc:creator>User</dc:creator>
  <dc:description/>
  <dc:language>en-US</dc:language>
  <cp:lastModifiedBy>User</cp:lastModifiedBy>
  <dcterms:modified xsi:type="dcterms:W3CDTF">2006-10-10T15:26:43Z</dcterms:modified>
  <cp:revision>3</cp:revision>
  <dc:subject/>
  <dc:title>Revisions</dc:title>
</cp:coreProperties>
</file>